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00A4-28AB-4EF1-90CC-A846F496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CD5-0DB9-4FCC-877B-65F653E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F4D8-3601-4375-99E9-A176B7AB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FEE7-2CF2-4F59-A7BC-46CBA202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3BC2-F6E7-4927-80CD-C5599482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AAE3-126F-4B3B-932C-6731F6AA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8468-9896-42D7-A87F-D7522412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EB92-C60A-4EEE-B3FD-E140359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D2E-2FB6-4BF0-8F6F-89C16F24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440A-F579-4CAC-99E4-8E20AA9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148-ED15-4F17-91AD-B02E34A2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25A-DC79-400F-9952-D5E30F7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9AE-3C00-40A1-AD86-7195F875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8850-5845-4C96-9B9A-87580E2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DFD-07C7-49C7-AEEA-CACB4EC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97DB-D640-489A-B362-3EB77A1F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0613-B7B0-4D48-A428-04918E37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0CA7D-1F31-47A1-A2A5-9991634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551F-F92B-409E-A623-7C8B4880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3646-3D8B-48B1-8D8F-9E85C3E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781FC-ADFE-49D6-B8BD-5078EDF4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A96E5-966A-4306-845C-42199688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0F6C-58CA-4B5F-BD0D-BC35221F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1566-1653-46EF-B889-7441E72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8E624-E9EF-4CB4-A1A2-3AF0374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5ED7-ABB3-4D83-897F-8AEAD20D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FED4D-0D04-4253-974F-2A18BAEC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9DB68-9962-4271-A0D3-5BA92D3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D469-868B-4B2B-AAD7-E47CFB5D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2DF7-BFC4-41C0-9618-D725B707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BE978-1308-4713-9C48-F576BDD6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97BF1-91DA-4869-933E-A32A7A5D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6219-AB46-4B94-A5FD-BEC9D40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C0C-C8B5-4A48-AEC5-E872194A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554B2-181F-4DF8-9346-1D2075B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DA195-C998-40B7-BA4D-390B1E3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62E31-C690-4495-A94C-2FEB548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67E2-0036-49AE-A94B-5ADCF3C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6F76-D1B8-42FA-9C68-090AB9A1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CCA3-0C58-4EE2-8503-979B22BF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629B5-8DE9-4BD9-911D-4753C66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3919-BF78-4AF0-8D65-F53A21E9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E761C-F151-42FC-8AEF-A97EB82E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D60-4A9F-433C-AD3E-A1F0940E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641A-5D3B-4689-BC56-A980D7D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AD4-2CEF-4B2A-920A-E6EF855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A16-C28E-405E-AB0E-C8A6DEC9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F82-1E9A-46A6-B878-42872791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0464-EEFA-45D6-890B-5A15369C73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2AE7-90E3-4944-B284-1D1D03E13CE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F2C4-79A9-4A7F-BF4C-6976443C5A9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B59-40DD-4C4B-B36D-9483650530D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on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uch would a green salad and a bowl of tomato soup cos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u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 much more does a hamburger cost than a bowl of chicken noodle soup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dne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Nikki had 75 cents how much more would she need to buy a hamburger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urs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Jaquese paid for a piece of apple pie with 3 quarters, how much more change would she receiv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ida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st at least 5 combinations of items that Jordan could buy for exactly 3 quarters, 2 dimes, and 3 penn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04:08Z</dcterms:created>
  <dc:creator>127partidak</dc:creator>
  <dc:description/>
  <dc:language>en-US</dc:language>
  <cp:lastModifiedBy>127partidak</cp:lastModifiedBy>
  <dcterms:modified xsi:type="dcterms:W3CDTF">2011-11-21T16:25:01Z</dcterms:modified>
  <cp:revision>5</cp:revision>
  <dc:subject/>
  <dc:title>Monday</dc:title>
</cp:coreProperties>
</file>